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62B1-7BE0-42E3-844B-A02A82BCE552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4854-98DD-4EF1-901D-02219218D3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8278-B601-4232-89D9-21753895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191-A00C-4CED-8B68-D2F26B05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DAF-B80F-408F-A310-7C98D5DC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D7C-D8CE-4C46-B0FE-D599D304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FEEA-0244-494D-82FD-6C9D3BA5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1A55-60BC-4420-8715-5606FBB7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5A17-886B-4402-968D-43A25005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2F46-16AE-46F2-A947-BA7FF7CC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4E71-8328-48AD-9E4D-C82295BB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B23B-ABC6-4895-B63E-60BD412C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BAC7-D876-4486-809F-13F78D0F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32C-D979-4603-9359-F5DFDAE9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C111-529D-42C3-BDFB-BD886F9E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41AF-C782-4D5F-8A75-FCD87FB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2B1B-7BDA-4853-95CC-9B8C37CE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8A18-EC23-4AF1-9582-57AB538E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2F43-08D6-4607-A1DF-58221D89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991-9DED-4B0C-B817-9CC5EC0A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22B-342F-4EB9-8318-DFD290AB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01A-5685-4035-9723-7CFAE2AC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4AF-5133-4242-9054-90FEE8D8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714-AB2D-4748-99A4-3EBFDB7E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88C-5CD2-4FAE-8D12-DED136F2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D97-FAE9-411C-9D32-56CD98D8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50DE-1806-47A0-9A1C-FE9A3F93AC3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5EB9-5647-48C4-B232-FE21D3A27A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Rectangle 5"/>
          <p:cNvGrpSpPr/>
          <p:nvPr/>
        </p:nvGrpSpPr>
        <p:grpSpPr>
          <a:xfrm>
            <a:off x="1189080" y="1268280"/>
            <a:ext cx="6259320" cy="4535640"/>
            <a:chOff x="1189080" y="1268280"/>
            <a:chExt cx="6259320" cy="4535640"/>
          </a:xfrm>
        </p:grpSpPr>
        <p:pic>
          <p:nvPicPr>
            <p:cNvPr id="94" name="Rectangle 5" descr=""/>
            <p:cNvPicPr/>
            <p:nvPr/>
          </p:nvPicPr>
          <p:blipFill>
            <a:blip r:embed="rId1"/>
            <a:stretch/>
          </p:blipFill>
          <p:spPr>
            <a:xfrm>
              <a:off x="1190520" y="1268280"/>
              <a:ext cx="6254280" cy="45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89080" y="1268280"/>
              <a:ext cx="6259320" cy="45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bava, smeh in razveseljevanje bližnjih večajo življenjsko sreč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Življenje je lovljenje ravnotežja med odgovornostmi, delom, počitkom in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Vse ima svoje mesto v velikem zemljevidu življenja. Zato se je treba nagraditi s časom za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a te napolni z energijo, ki jo potrebuješ, da se sreča lahko obnavlj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to te prisrčno vabim, da se poveseliš z mano - ob mojem prihajajočem 40. rojstnem dnev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1600" spc="-1" strike="noStrike" u="sng">
                  <a:solidFill>
                    <a:srgbClr val="000000"/>
                  </a:solidFill>
                  <a:uFillTx/>
                  <a:latin typeface="Andalus"/>
                  <a:ea typeface="Andalus"/>
                </a:rPr>
                <a:t>dne 23. oktobra 2014 ob 14.10 minu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e dobimo na </a:t>
              </a:r>
              <a:r>
                <a:rPr b="1" i="1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arkirišču za osnovno šolo  </a:t>
              </a: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 skupaj odidemo v neznan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Melita Žlajpa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13T09:18:08Z</dcterms:modified>
  <cp:revision>75</cp:revision>
  <dc:subject/>
  <dc:title>TITLE</dc:title>
</cp:coreProperties>
</file>